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13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3DB-979A-4351-8211-1C8E99A7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5B9-C48C-4015-8079-469E094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3CF-ED20-443D-81AE-040FEF8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ABB-1D91-496F-925F-229A3A80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8EBA-BEFD-481D-A9D4-8C520680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E34-81A8-4D6B-8563-DBC9AB47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DD2-8DD6-4374-8DA9-FB0C0A4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BDCC-DD6E-4698-AECA-3D69C1F2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3251-023E-4F1F-831D-839D675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6C2-E7ED-41D6-927D-732844E0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9AFE-2921-4DC3-9EBD-FE08321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48E-1088-4136-A7A9-7DA3E218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C1A-4692-45AE-9F2A-8440A61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6BB1-BB1C-41C6-9295-C0CB3E0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1EE-3725-46E0-BE6B-18FA6E8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3A0E-AD30-4C43-8540-B53DC23F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C36A-7E5B-45F7-A5F9-E5D96695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FC2-2956-4CD3-A67A-5FFE6641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677-C191-4CB4-BCD5-5B61551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D8B-6265-43A6-B5A0-DC001D5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B9A-C22C-4AF6-9326-1D9D332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B98-D091-4B52-AB80-4FAD4EBA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E53-CF56-41B4-A035-793B901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4D7-15BE-4266-951A-C53D131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609-8312-4501-B205-459B0CAC4A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127B-2C9C-4E8D-9F7D-C11146C5C9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7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D6ED-24D7-4F16-8089-774536FF6F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1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Diagram 14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ole tekstowe 7"/>
          <p:cNvSpPr/>
          <p:nvPr/>
        </p:nvSpPr>
        <p:spPr>
          <a:xfrm>
            <a:off x="324000" y="260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często mylona jest z dwoma pojęciami pokrewnym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charakterem i temperam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8"/>
          <p:cNvSpPr/>
          <p:nvPr/>
        </p:nvSpPr>
        <p:spPr>
          <a:xfrm>
            <a:off x="395280" y="13413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cechy nabywane w trakcie wychowania, wskazują na pewien stopień konformizmu jednostki wobec obowiązujących standardów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0"/>
          <p:cNvSpPr/>
          <p:nvPr/>
        </p:nvSpPr>
        <p:spPr>
          <a:xfrm>
            <a:off x="395280" y="29973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tomiast nie odnosi się do oddziaływań socjalizacyjnych, lecz do podstawowej biologicznej predyspozycji jednostki do przejawiania określonych zachowań i specyficznych wzorców reakcji emocjonalnych, zmian nastroju oraz wysokiego lub niskiego progu wrażliw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to dynami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 osobo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harakterystyczna dla każdej jednostki i uwarunkowana biologicznie/genetycznie siła oraz szybkość reagowania. Chodzi tu głównie o reakcje emocjonalne, ich trwałość, siłę i częstotli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33676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Dowolny kształt 12"/>
          <p:cNvSpPr/>
          <p:nvPr/>
        </p:nvSpPr>
        <p:spPr>
          <a:xfrm>
            <a:off x="1440000" y="2133720"/>
            <a:ext cx="2844720" cy="21589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elanchol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owolny kształt 13"/>
          <p:cNvSpPr/>
          <p:nvPr/>
        </p:nvSpPr>
        <p:spPr>
          <a:xfrm>
            <a:off x="4284720" y="2133720"/>
            <a:ext cx="2843280" cy="215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oler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owolny kształt 14"/>
          <p:cNvSpPr/>
          <p:nvPr/>
        </p:nvSpPr>
        <p:spPr>
          <a:xfrm>
            <a:off x="1440000" y="4292640"/>
            <a:ext cx="2844720" cy="21607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legmat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olny kształt 16"/>
          <p:cNvSpPr/>
          <p:nvPr/>
        </p:nvSpPr>
        <p:spPr>
          <a:xfrm>
            <a:off x="4284720" y="4292640"/>
            <a:ext cx="2843280" cy="2160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angwin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olny kształt 17"/>
          <p:cNvSpPr/>
          <p:nvPr/>
        </p:nvSpPr>
        <p:spPr>
          <a:xfrm>
            <a:off x="3166920" y="3645000"/>
            <a:ext cx="2233800" cy="1296720"/>
          </a:xfrm>
          <a:prstGeom prst="pie">
            <a:avLst/>
          </a:prstGeom>
          <a:solidFill>
            <a:srgbClr val="e8d0d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240" rIns="147240" tIns="147240" bIns="14724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alen wyróżnił cztery typy tempera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18"/>
          <p:cNvGrpSpPr/>
          <p:nvPr/>
        </p:nvGrpSpPr>
        <p:grpSpPr>
          <a:xfrm>
            <a:off x="539640" y="333360"/>
            <a:ext cx="7632720" cy="1486080"/>
            <a:chOff x="539640" y="333360"/>
            <a:chExt cx="7632720" cy="1486080"/>
          </a:xfrm>
        </p:grpSpPr>
        <p:sp>
          <p:nvSpPr>
            <p:cNvPr id="196" name="pole tekstowe 7"/>
            <p:cNvSpPr/>
            <p:nvPr/>
          </p:nvSpPr>
          <p:spPr>
            <a:xfrm>
              <a:off x="2051640" y="477000"/>
              <a:ext cx="612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ierwszą i najpopularniejszą teorię temperamentu opracował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ale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opierając się na koncepcji Hipokratesa o równowadze czterech płynów ustrojowych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rwi, żółci, czarnej żółci i śluzu (flegmy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44000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7"/>
          <p:cNvSpPr/>
          <p:nvPr/>
        </p:nvSpPr>
        <p:spPr>
          <a:xfrm>
            <a:off x="395280" y="549360"/>
            <a:ext cx="7777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cholery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onny do zachowań agresywny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odczuwa niezadowoleni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iezawodny, nie boi się przeszkó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elacjach z innymi kładzie nacisk na własne „ja”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doznania emocjonalne są trwałe, a reakcje behawioralne szybkie, silne, nieregular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8"/>
          <p:cNvSpPr/>
          <p:nvPr/>
        </p:nvSpPr>
        <p:spPr>
          <a:xfrm>
            <a:off x="395280" y="371628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angwin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zbyt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wesołym i pogodnym oportunistą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otwarty, dosyć subtel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niezwykle zmienne zainteresowania – ta niestałość i brak równowagi może być problemem dla otocze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nadmierną ekspresję emocjonalną, dlatego inni mogą mniemać o wyjątkowej sile jego uczu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3"/>
          <a:stretch/>
        </p:blipFill>
        <p:spPr>
          <a:xfrm>
            <a:off x="5508720" y="476280"/>
            <a:ext cx="25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04" name="Obraz 10" descr="ludzie76.jpg"/>
          <p:cNvPicPr/>
          <p:nvPr/>
        </p:nvPicPr>
        <p:blipFill>
          <a:blip r:embed="rId14"/>
          <a:stretch/>
        </p:blipFill>
        <p:spPr>
          <a:xfrm>
            <a:off x="5651640" y="3284640"/>
            <a:ext cx="23857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12"/>
          <p:cNvGrpSpPr/>
          <p:nvPr/>
        </p:nvGrpSpPr>
        <p:grpSpPr>
          <a:xfrm>
            <a:off x="395280" y="3573360"/>
            <a:ext cx="7777080" cy="2633040"/>
            <a:chOff x="395280" y="3573360"/>
            <a:chExt cx="7777080" cy="2633040"/>
          </a:xfrm>
        </p:grpSpPr>
        <p:sp>
          <p:nvSpPr>
            <p:cNvPr id="209" name="pole tekstowe 8"/>
            <p:cNvSpPr/>
            <p:nvPr/>
          </p:nvSpPr>
          <p:spPr>
            <a:xfrm>
              <a:off x="395280" y="3644640"/>
              <a:ext cx="7777080" cy="25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yp flegmatyczny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zbyt wrażliwy i niezbyt impulsyw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równoważony i niewzruszo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budzają go tylko bardzo silne bodźce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go emocje są selektywne i pogłębione, dotyczą niewielu wybranych obiektów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aczej bier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rdzo tolerancyjny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"/>
            <p:cNvPicPr/>
            <p:nvPr/>
          </p:nvPicPr>
          <p:blipFill>
            <a:blip r:embed="rId8"/>
            <a:stretch/>
          </p:blipFill>
          <p:spPr>
            <a:xfrm>
              <a:off x="5508000" y="3573360"/>
              <a:ext cx="2194920" cy="13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ole tekstowe 7"/>
          <p:cNvSpPr/>
          <p:nvPr/>
        </p:nvSpPr>
        <p:spPr>
          <a:xfrm>
            <a:off x="324000" y="333360"/>
            <a:ext cx="7993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melanchol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niezbyt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łatwo popada w negatywizm, czarnowidztwo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eurotycz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zachowania są determinowane przez wysoki poziom odczuwanego lęk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zaniżoną samoocenę, każda klęska podkopuje jego poczucie własnej wartości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jest towarzyski, nie potrafi sprawnie nawiązywać relacji z inny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raz 11" descr="ludzie72.jpg"/>
          <p:cNvPicPr/>
          <p:nvPr/>
        </p:nvPicPr>
        <p:blipFill>
          <a:blip r:embed="rId15"/>
          <a:stretch/>
        </p:blipFill>
        <p:spPr>
          <a:xfrm>
            <a:off x="5580000" y="189000"/>
            <a:ext cx="2384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lans umiejętności i mocnych str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ole tekstowe 6"/>
          <p:cNvSpPr/>
          <p:nvPr/>
        </p:nvSpPr>
        <p:spPr>
          <a:xfrm>
            <a:off x="395280" y="119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mocnych i słabych stron własnej osobowości polega na dokonaniu zestawienia swoich  pozytywnych i negatywnych c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upa 14"/>
          <p:cNvGrpSpPr/>
          <p:nvPr/>
        </p:nvGrpSpPr>
        <p:grpSpPr>
          <a:xfrm>
            <a:off x="611280" y="2060640"/>
            <a:ext cx="7416720" cy="2016000"/>
            <a:chOff x="611280" y="2060640"/>
            <a:chExt cx="7416720" cy="2016000"/>
          </a:xfrm>
        </p:grpSpPr>
        <p:sp>
          <p:nvSpPr>
            <p:cNvPr id="219" name="Dowolny kształt 10"/>
            <p:cNvSpPr/>
            <p:nvPr/>
          </p:nvSpPr>
          <p:spPr>
            <a:xfrm>
              <a:off x="611280" y="2060640"/>
              <a:ext cx="7416720" cy="2016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zalet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twoje charakterystyczne cechy?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umiesz robić dobrze?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 co chwalą cię inni?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lepiej od innych?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lubisz robić?   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rostokąt zaokrąglony 11"/>
            <p:cNvSpPr/>
            <p:nvPr/>
          </p:nvSpPr>
          <p:spPr>
            <a:xfrm>
              <a:off x="804960" y="2254320"/>
              <a:ext cx="1482480" cy="154764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547640"/>
                <a:gd name="textAreaBottom" fmla="*/ 1504440 h 1547640"/>
              </a:gdLst>
              <a:ahLst/>
              <a:rect l="textAreaLeft" t="textAreaTop" r="textAreaRight" b="textAreaBottom"/>
              <a:pathLst>
                <a:path w="21600" h="22549">
                  <a:moveTo>
                    <a:pt x="2160" y="0"/>
                  </a:moveTo>
                  <a:arcTo wR="2160" hR="2160" stAng="16200000" swAng="-5400000"/>
                  <a:lnTo>
                    <a:pt x="0" y="20389"/>
                  </a:lnTo>
                  <a:arcTo wR="2160" hR="2160" stAng="10800000" swAng="-5400000"/>
                  <a:lnTo>
                    <a:pt x="19440" y="2254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upa 16"/>
          <p:cNvGrpSpPr/>
          <p:nvPr/>
        </p:nvGrpSpPr>
        <p:grpSpPr>
          <a:xfrm>
            <a:off x="611280" y="4189320"/>
            <a:ext cx="7416720" cy="2048040"/>
            <a:chOff x="611280" y="4189320"/>
            <a:chExt cx="7416720" cy="2048040"/>
          </a:xfrm>
        </p:grpSpPr>
        <p:sp>
          <p:nvSpPr>
            <p:cNvPr id="222" name="Dowolny kształt 12"/>
            <p:cNvSpPr/>
            <p:nvPr/>
          </p:nvSpPr>
          <p:spPr>
            <a:xfrm>
              <a:off x="611280" y="4189320"/>
              <a:ext cx="7416720" cy="2048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wad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ch umiejętności ci brakuj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niedobrz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ego powinieneś unikać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inni spostrzegają twoje słabe strony?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twoi rówieśnicy robią coś lepiej od ciebi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rostokąt zaokrąglony 13"/>
            <p:cNvSpPr/>
            <p:nvPr/>
          </p:nvSpPr>
          <p:spPr>
            <a:xfrm>
              <a:off x="804960" y="4402080"/>
              <a:ext cx="1482480" cy="169560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695600"/>
                <a:gd name="textAreaBottom" fmla="*/ 1652400 h 1695600"/>
              </a:gdLst>
              <a:ahLst/>
              <a:rect l="textAreaLeft" t="textAreaTop" r="textAreaRight" b="textAreaBottom"/>
              <a:pathLst>
                <a:path w="21600" h="24704">
                  <a:moveTo>
                    <a:pt x="2160" y="0"/>
                  </a:moveTo>
                  <a:arcTo wR="2160" hR="2160" stAng="16200000" swAng="-5400000"/>
                  <a:lnTo>
                    <a:pt x="0" y="22544"/>
                  </a:lnTo>
                  <a:arcTo wR="2160" hR="2160" stAng="10800000" swAng="-5400000"/>
                  <a:lnTo>
                    <a:pt x="19440" y="2470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ole tekstowe 6"/>
          <p:cNvSpPr/>
          <p:nvPr/>
        </p:nvSpPr>
        <p:spPr>
          <a:xfrm>
            <a:off x="539640" y="12682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popularnych teorii osobowości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opisuje osobowość człowieka na wymiar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wolny kształt 10"/>
          <p:cNvSpPr/>
          <p:nvPr/>
        </p:nvSpPr>
        <p:spPr>
          <a:xfrm>
            <a:off x="2664000" y="2276640"/>
            <a:ext cx="3311280" cy="9223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zm vs uspołecz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owolny kształt 11"/>
          <p:cNvSpPr/>
          <p:nvPr/>
        </p:nvSpPr>
        <p:spPr>
          <a:xfrm>
            <a:off x="4113360" y="3255840"/>
            <a:ext cx="414360" cy="3463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olny kształt 12"/>
          <p:cNvSpPr/>
          <p:nvPr/>
        </p:nvSpPr>
        <p:spPr>
          <a:xfrm>
            <a:off x="2664000" y="3659040"/>
            <a:ext cx="3311280" cy="922320"/>
          </a:xfrm>
          <a:prstGeom prst="pie">
            <a:avLst/>
          </a:prstGeom>
          <a:solidFill>
            <a:srgbClr val="bd9b5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 vs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ntrowers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olny kształt 13"/>
          <p:cNvSpPr/>
          <p:nvPr/>
        </p:nvSpPr>
        <p:spPr>
          <a:xfrm>
            <a:off x="4113360" y="4640400"/>
            <a:ext cx="414360" cy="3445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olny kształt 14"/>
          <p:cNvSpPr/>
          <p:nvPr/>
        </p:nvSpPr>
        <p:spPr>
          <a:xfrm>
            <a:off x="2664000" y="5043600"/>
            <a:ext cx="3311280" cy="9223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 vs zrównoważenie emo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6"/>
          <p:cNvSpPr/>
          <p:nvPr/>
        </p:nvSpPr>
        <p:spPr>
          <a:xfrm>
            <a:off x="2054520" y="242100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17"/>
          <p:cNvSpPr/>
          <p:nvPr/>
        </p:nvSpPr>
        <p:spPr>
          <a:xfrm>
            <a:off x="2054520" y="37893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18"/>
          <p:cNvSpPr/>
          <p:nvPr/>
        </p:nvSpPr>
        <p:spPr>
          <a:xfrm>
            <a:off x="2054520" y="515772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Dowolny kształt 11"/>
          <p:cNvSpPr/>
          <p:nvPr/>
        </p:nvSpPr>
        <p:spPr>
          <a:xfrm>
            <a:off x="539640" y="404640"/>
            <a:ext cx="2422800" cy="5256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gre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połe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ło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bawiony emp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gocentr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ul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osob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gruboskó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wórc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owolny kształt 12"/>
          <p:cNvSpPr/>
          <p:nvPr/>
        </p:nvSpPr>
        <p:spPr>
          <a:xfrm>
            <a:off x="3144960" y="404640"/>
            <a:ext cx="2422440" cy="5256360"/>
          </a:xfrm>
          <a:prstGeom prst="pie">
            <a:avLst/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zy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tr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ży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ominują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uch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er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szukujący dozn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śmi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olny kształt 13"/>
          <p:cNvSpPr/>
          <p:nvPr/>
        </p:nvSpPr>
        <p:spPr>
          <a:xfrm>
            <a:off x="5748480" y="404640"/>
            <a:ext cx="2422440" cy="52563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lęk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niską samooce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epres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rra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poczuciem w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arkot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pię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mo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łoch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8"/>
          <p:cNvSpPr/>
          <p:nvPr/>
        </p:nvSpPr>
        <p:spPr>
          <a:xfrm>
            <a:off x="1692360" y="6093000"/>
            <a:ext cx="676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 Strelau, D. Doliński (red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)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. Podręcznik akademicki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t. 1, Gdańskie Wydawnictwo Psychologiczne, Gdańsk 200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771640" y="4668840"/>
            <a:ext cx="3441960" cy="21891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ole tekstowe 7"/>
          <p:cNvSpPr/>
          <p:nvPr/>
        </p:nvSpPr>
        <p:spPr>
          <a:xfrm>
            <a:off x="395280" y="40464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czn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wiejność emocjonalna, łączy się z dużymi napięciami emocjonalnymi, które w zachowaniu mogą objawiać się np. zmiennością nastrojów, nadwrażliwością, skłonnością do popadania w depresję, obniżonym poczuciem własnej wartoś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8"/>
          <p:cNvSpPr/>
          <p:nvPr/>
        </p:nvSpPr>
        <p:spPr>
          <a:xfrm>
            <a:off x="395280" y="1773360"/>
            <a:ext cx="78487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skłonność do kierowania uwagi na świat zewnętrzny, duża aktywność skierowana na zewnątrz, łatwość wyrażania swoich myśli lub uczuć oraz brak zahamowań w nawiązywaniu kontaktów z ludźm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rzeciwległym biegunie znajduje się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ą cechuje: brak zainteresowania światem zewnętrznym i praktyczną działalnością, skupianie się na własnych przeżyciach wewnętrznych, powściągliwość w wyrażaniu uczuć  i niechęć do nawiązywania kontaktów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10"/>
          <p:cNvSpPr/>
          <p:nvPr/>
        </p:nvSpPr>
        <p:spPr>
          <a:xfrm>
            <a:off x="395280" y="400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tyzm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cha ta pozwala na ocenę stopnia uspołecznienia oraz respektowania obowiązujących norm, przepisów prawa i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ło służące do rozpoznania swoich cech i właściwości psychicznych oparte na koncepcji Eysenc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2" descr="Temperament_eyesenck"/>
          <p:cNvPicPr/>
          <p:nvPr/>
        </p:nvPicPr>
        <p:blipFill>
          <a:blip r:embed="rId2"/>
          <a:stretch/>
        </p:blipFill>
        <p:spPr>
          <a:xfrm>
            <a:off x="1547640" y="1268280"/>
            <a:ext cx="535644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7"/>
          <p:cNvSpPr/>
          <p:nvPr/>
        </p:nvSpPr>
        <p:spPr>
          <a:xfrm>
            <a:off x="1116000" y="62373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K. Kmiecik-Baran (red.)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urzenia zachowania dzieci i młodzieży szkolnej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Verlag Daschofer, Warszawa 2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ole tekstowe 6"/>
          <p:cNvSpPr/>
          <p:nvPr/>
        </p:nvSpPr>
        <p:spPr>
          <a:xfrm>
            <a:off x="324000" y="112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współczesnych i popularnych koncepcji opisujących osobowość jest Model IPK, stworzony na podstawie pięcioczynnikowego modelu osobowości, tzw. Wielkiej Piątki P. Costy i J. McC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83080" cy="3643200"/>
          </a:xfrm>
          <a:prstGeom prst="rect">
            <a:avLst/>
          </a:prstGeom>
          <a:ln w="0">
            <a:noFill/>
          </a:ln>
        </p:spPr>
      </p:pic>
      <p:sp>
        <p:nvSpPr>
          <p:cNvPr id="264" name="pole tekstowe 10"/>
          <p:cNvSpPr/>
          <p:nvPr/>
        </p:nvSpPr>
        <p:spPr>
          <a:xfrm>
            <a:off x="3501000" y="4221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11"/>
          <p:cNvSpPr/>
          <p:nvPr/>
        </p:nvSpPr>
        <p:spPr>
          <a:xfrm>
            <a:off x="3640680" y="2276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ole tekstowe 12"/>
          <p:cNvSpPr/>
          <p:nvPr/>
        </p:nvSpPr>
        <p:spPr>
          <a:xfrm>
            <a:off x="547560" y="3357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ole tekstowe 13"/>
          <p:cNvSpPr/>
          <p:nvPr/>
        </p:nvSpPr>
        <p:spPr>
          <a:xfrm>
            <a:off x="1483920" y="6237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mien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14"/>
          <p:cNvSpPr/>
          <p:nvPr/>
        </p:nvSpPr>
        <p:spPr>
          <a:xfrm>
            <a:off x="6091200" y="6165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ole tekstowe 16"/>
          <p:cNvSpPr/>
          <p:nvPr/>
        </p:nvSpPr>
        <p:spPr>
          <a:xfrm>
            <a:off x="6877800" y="33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god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ole tekstowe 17"/>
          <p:cNvSpPr/>
          <p:nvPr/>
        </p:nvSpPr>
        <p:spPr>
          <a:xfrm>
            <a:off x="3213360" y="6534000"/>
            <a:ext cx="239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opracowanie włas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ole tekstowe 18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wanie własnych cech i umiejętności to niezbędna czynność przy planowaniu swojej edukacji oraz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9"/>
          <p:cNvSpPr/>
          <p:nvPr/>
        </p:nvSpPr>
        <p:spPr>
          <a:xfrm>
            <a:off x="1557000" y="1844640"/>
            <a:ext cx="5139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wala odpowiedzieć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twoje charakterystyczne ce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ch umiejętności ci brak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umiesz robić 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nie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co chwalą cię in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powinieneś unik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lepiej od inny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inni spostrzegają twoje słabe stro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lubisz robi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twoi rówieśnicy robią coś lepiej od cieb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2"/>
          <a:stretch/>
        </p:blipFill>
        <p:spPr>
          <a:xfrm>
            <a:off x="6084720" y="2637000"/>
            <a:ext cx="14274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ole tekstowe 6"/>
          <p:cNvSpPr/>
          <p:nvPr/>
        </p:nvSpPr>
        <p:spPr>
          <a:xfrm>
            <a:off x="395280" y="333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 zakłada istnienie pięciu głównych czynników osobowościow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0"/>
          <p:cNvSpPr/>
          <p:nvPr/>
        </p:nvSpPr>
        <p:spPr>
          <a:xfrm>
            <a:off x="382680" y="1397160"/>
            <a:ext cx="6219720" cy="8445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10700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1. Neurotyzm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równoważenie emocjonalne lub jego brak, podatność na stres psychologiczny i doświadczanie negatywnych emocji ,tj. gniew, poczucie winy, str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1"/>
          <p:cNvSpPr/>
          <p:nvPr/>
        </p:nvSpPr>
        <p:spPr>
          <a:xfrm>
            <a:off x="992160" y="2359080"/>
            <a:ext cx="5877000" cy="84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2. Ekstrawersja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iom aktywności jednostki, liczba i intensywność jej relacji z innymi, skłonność do zabawy i odczuwanie pozytywnych emocj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2"/>
          <p:cNvSpPr/>
          <p:nvPr/>
        </p:nvSpPr>
        <p:spPr>
          <a:xfrm>
            <a:off x="1430280" y="3322800"/>
            <a:ext cx="5878440" cy="8445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3. Otwartość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topień, w jakim jednostka jest skłonna do poszukiwania nowych doświadczeń, czy jest otwarta na to, co niezn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olny kształt 13"/>
          <p:cNvSpPr/>
          <p:nvPr/>
        </p:nvSpPr>
        <p:spPr>
          <a:xfrm>
            <a:off x="1870200" y="4284720"/>
            <a:ext cx="5876640" cy="84600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Ugodowość – j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ość relacji z ludźmi, pozytywne lub negatywne nastawienie do in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olny kształt 14"/>
          <p:cNvSpPr/>
          <p:nvPr/>
        </p:nvSpPr>
        <p:spPr>
          <a:xfrm>
            <a:off x="2308320" y="5248440"/>
            <a:ext cx="5878440" cy="844560"/>
          </a:xfrm>
          <a:prstGeom prst="pie">
            <a:avLst/>
          </a:prstGeom>
          <a:solidFill>
            <a:srgbClr val="98480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5. Sumienność – s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pień zorganizowania, wytrwałość w dążeniu do celu oraz  motywacja do prac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olny kształt 16"/>
          <p:cNvSpPr/>
          <p:nvPr/>
        </p:nvSpPr>
        <p:spPr>
          <a:xfrm>
            <a:off x="5881680" y="2014560"/>
            <a:ext cx="54936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e8d0d0">
              <a:alpha val="90000"/>
            </a:srgbClr>
          </a:solidFill>
          <a:ln w="25560">
            <a:solidFill>
              <a:srgbClr val="e8d0d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olny kształt 17"/>
          <p:cNvSpPr/>
          <p:nvPr/>
        </p:nvSpPr>
        <p:spPr>
          <a:xfrm>
            <a:off x="6319800" y="2976480"/>
            <a:ext cx="54936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ee7d1">
              <a:alpha val="90000"/>
            </a:srgbClr>
          </a:solidFill>
          <a:ln w="25560">
            <a:solidFill>
              <a:srgbClr val="dee7d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olny kształt 18"/>
          <p:cNvSpPr/>
          <p:nvPr/>
        </p:nvSpPr>
        <p:spPr>
          <a:xfrm>
            <a:off x="6759720" y="3925800"/>
            <a:ext cx="54900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8d3e0">
              <a:alpha val="90000"/>
            </a:srgbClr>
          </a:solidFill>
          <a:ln w="25560">
            <a:solidFill>
              <a:srgbClr val="d8d3e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olny kształt 19"/>
          <p:cNvSpPr/>
          <p:nvPr/>
        </p:nvSpPr>
        <p:spPr>
          <a:xfrm>
            <a:off x="7197840" y="4897440"/>
            <a:ext cx="54900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0e3ea">
              <a:alpha val="90000"/>
            </a:srgbClr>
          </a:solidFill>
          <a:ln w="25560">
            <a:solidFill>
              <a:srgbClr val="d0e3ea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ole tekstowe 7"/>
          <p:cNvSpPr/>
          <p:nvPr/>
        </p:nvSpPr>
        <p:spPr>
          <a:xfrm>
            <a:off x="395280" y="47628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przyjacielskie, rozmowne, skłonne do zabawy i poszukiwania stymulacji oraz wykazują optymizm życiowy i pogodny nastrój, wykazują tendencję do dominowania w kontaktach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ole tekstowe 8"/>
          <p:cNvSpPr/>
          <p:nvPr/>
        </p:nvSpPr>
        <p:spPr>
          <a:xfrm>
            <a:off x="4500720" y="47628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rezerwę w kontaktach społecznych, brak optymizmu, który nie musi oznaczać pesymizmu czy braku szczęścia. Ponadto preferują przebywanie w samotności, są nieśmiałe, co nie oznacza lęku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914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ole tekstowe 7"/>
          <p:cNvSpPr/>
          <p:nvPr/>
        </p:nvSpPr>
        <p:spPr>
          <a:xfrm>
            <a:off x="539640" y="54936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ają tendencję do silnego reagowania emocjonalnego nawet w sytuacjach niezbyt skłaniających do takich reakcji. Często wybuchają płaczem lub złością. Nie potrafią przyjmować informacji zwrotnej na swój tem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8"/>
          <p:cNvSpPr/>
          <p:nvPr/>
        </p:nvSpPr>
        <p:spPr>
          <a:xfrm>
            <a:off x="4643280" y="62064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mocjonalnie stabilne, spokojne, zrelaksowane i zdolne do zmagania się ze stresem, bez doświadczania obaw, napięć i rozdrażnienia. Znacznie skuteczniej kontrolują własne emo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4940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4965840" y="3735360"/>
            <a:ext cx="32781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ole tekstowe 7"/>
          <p:cNvSpPr/>
          <p:nvPr/>
        </p:nvSpPr>
        <p:spPr>
          <a:xfrm>
            <a:off x="395280" y="83664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ugodow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sympatyczne wobec innych i skłonne do udzielania im pomocy. Są prostolinijne, prostoduszne, szczere, altruistyczne, potulne i łagodne oraz skrom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czuciowe w stosunku do ludzi. Wysoki poziom ugodowości często jest związany z tendencją do pomag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8"/>
          <p:cNvSpPr/>
          <p:nvPr/>
        </p:nvSpPr>
        <p:spPr>
          <a:xfrm>
            <a:off x="3276720" y="350028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o ugodowe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gocentryczne, sceptyczne w opiniach na temat intencji innych ludzi oraz przejawiają raczej nastawienie rywalizacyjne niż kooperatywne, są agresyw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oschłe w kontaktach z innymi ludźmi. Mają nieprzyjemny, a w skrajnych przypadkach wrogi stosunek do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7020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7241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ole tekstowe 7"/>
          <p:cNvSpPr/>
          <p:nvPr/>
        </p:nvSpPr>
        <p:spPr>
          <a:xfrm>
            <a:off x="3564000" y="549360"/>
            <a:ext cx="4680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sumien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silną wolę, są zmotywowane do działania oraz wytrwałe w realizowaniu swoich celów. Są postrzegane jako skrupulatne, punktual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zetelne w pracy. Mogą także przejawiać perfekcjonizm i pracoholizm, a także skłonność do utrzymywania porz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8"/>
          <p:cNvSpPr/>
          <p:nvPr/>
        </p:nvSpPr>
        <p:spPr>
          <a:xfrm>
            <a:off x="395280" y="3068640"/>
            <a:ext cx="4753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sumiennośc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naczają się mniejszym nasileniem cech poprzednio wymienionych. Wykazują raczej małą skrupulatność w wypełnianiu obowiązków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małą motywację osiągnięć społecznych, hedonistyczne nastawienie do życia, brak jasno sprecyzowanych celów życiowych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ozleniwienie oraz impulsywność przy podejmowaniu decyzji i spontaniczność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ałani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002040" cy="1906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93364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ole tekstowe 7"/>
          <p:cNvSpPr/>
          <p:nvPr/>
        </p:nvSpPr>
        <p:spPr>
          <a:xfrm>
            <a:off x="395280" y="549360"/>
            <a:ext cx="5040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ciekawe zjawisk zarówno świata zewnętrznego, jak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ewnętrznego oraz mają życie bogatsze pod względem liczby doświadczeń i przeżyć. Są kreatywne, mają żywą i twórczą wyobraźnię, wykazują intelektualną ciekawość i dużą wrażliwość estetyczną. Są także niekonwencjonalne, skłonne do kwestionowania autorytetów, niezależne w sąd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ole tekstowe 8"/>
          <p:cNvSpPr/>
          <p:nvPr/>
        </p:nvSpPr>
        <p:spPr>
          <a:xfrm>
            <a:off x="3492360" y="3789360"/>
            <a:ext cx="475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natomiast konwencjonalne w zachowaniu i konserwatywne w poglądach. Cenią sobie tradycyjne wartości, mają pragmatyczne zainteresowania i preferują uznane społecznie sposoby dział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89280" cy="1770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Holl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ole tekstowe 6"/>
          <p:cNvSpPr/>
          <p:nvPr/>
        </p:nvSpPr>
        <p:spPr>
          <a:xfrm>
            <a:off x="468360" y="1341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sześciu typów osobowości stworzony przez Hollanda pozwala dokonać rozpoznania cech i umiejętności w zakresie planowania swojej przyszłej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Diagram 7" descr=""/>
          <p:cNvPicPr/>
          <p:nvPr/>
        </p:nvPicPr>
        <p:blipFill>
          <a:blip r:embed="rId2"/>
          <a:stretch/>
        </p:blipFill>
        <p:spPr>
          <a:xfrm>
            <a:off x="523800" y="2620800"/>
            <a:ext cx="4638600" cy="3286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5704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ole tekstowe 7"/>
          <p:cNvSpPr/>
          <p:nvPr/>
        </p:nvSpPr>
        <p:spPr>
          <a:xfrm>
            <a:off x="468360" y="476280"/>
            <a:ext cx="41749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badaw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dąży do zrozumienia otaczającego świata, poszukując prawideł nim rządzących. Ma zdolności matematyczne i naukowe. Lubi badać zjawiska fizyczne, biologiczne, kulturowe. Nauka stanowi dla niego szczególn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0"/>
          <p:cNvSpPr/>
          <p:nvPr/>
        </p:nvSpPr>
        <p:spPr>
          <a:xfrm>
            <a:off x="3924360" y="3213000"/>
            <a:ext cx="4248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arty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zachowania kreatywne i umożliwiające wyrażanie samego siebie. Cechuje go szczególna wyobraźnia. Ma zdolności artystyczne,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j. pisarstwo, malowanie, szkicowanie, aktorstwo, taniec, muzyka. W celu wytwarzania dzieł sztuki posługuje się materiałem fizycznym, słownym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ludzkim. Estetyka jest dla niego wartością samą w sob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295800" cy="2087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652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ole tekstowe 7"/>
          <p:cNvSpPr/>
          <p:nvPr/>
        </p:nvSpPr>
        <p:spPr>
          <a:xfrm>
            <a:off x="3492360" y="549360"/>
            <a:ext cx="47516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połe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gnie nade wszystko pomagać ludziom. Chce informować, szkolić, leczyć innych, opiekować się ludźmi, wspierać ich. Takie osoby charakteryzują zdolności interpersonalne, pedagogiczne i postawa prospołeczna. Etyka i moralność stanowią dla nich wielk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>
            <a:off x="395280" y="3068640"/>
            <a:ext cx="468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przedsiębior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lubi pracę z ludźmi, ale ukierunkowaną niejednokrotnie na korzyści materialne. Nastawiony na osiąganie korzyści ekonomicznych, ale także przewodzenie, wpływanie na innych. Charakteryzują go kompetencje przywódcze, sprawdza się w kierowaniu zespołami. Zna się na organizacji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aniu. Pełen ambicji, dominujący, dopuszczający manipulowanie innymi, jeżeli miałoby to zaważyć na osiągnięciu cel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005280" cy="190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314964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ole tekstowe 7"/>
          <p:cNvSpPr/>
          <p:nvPr/>
        </p:nvSpPr>
        <p:spPr>
          <a:xfrm>
            <a:off x="395280" y="620640"/>
            <a:ext cx="475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konwencjonal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pracę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anymi, ich porządkowaniem i strukturą. Jego kompetencje można określić jako „biurowe”. Jest dobrze zorganizowany, wyróżniają go zdolności urzędnicze, arytmetyczne. Jest rozważny, konwencjonalny w swoich działaniach. Wszelka ekstrawagancja jest mu ob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ole tekstowe 8"/>
          <p:cNvSpPr/>
          <p:nvPr/>
        </p:nvSpPr>
        <p:spPr>
          <a:xfrm>
            <a:off x="3780000" y="3500280"/>
            <a:ext cx="446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reali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reprezentowany jest przez osoby, które lubią pracować z narzędziami, maszynami, roślinami i zwierzętami. Posiada kompetencje manualne, mechaniczne, rolnicze, techniczne. Charakteryzuje go sprawność fizycz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024360" cy="1919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294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ole tekstowe 10"/>
          <p:cNvSpPr/>
          <p:nvPr/>
        </p:nvSpPr>
        <p:spPr>
          <a:xfrm>
            <a:off x="498960" y="3213000"/>
            <a:ext cx="68601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ają się na nieg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starczane nam przez innych ludzi informacje na nasz temat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wyników naszych własnych działań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y dokonywanych przez nas porównań siebie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a 16"/>
          <p:cNvGrpSpPr/>
          <p:nvPr/>
        </p:nvGrpSpPr>
        <p:grpSpPr>
          <a:xfrm>
            <a:off x="468360" y="5229360"/>
            <a:ext cx="7632720" cy="720720"/>
            <a:chOff x="468360" y="5229360"/>
            <a:chExt cx="7632720" cy="720720"/>
          </a:xfrm>
        </p:grpSpPr>
        <p:sp>
          <p:nvSpPr>
            <p:cNvPr id="105" name="Prostokąt zaokrąglony 12"/>
            <p:cNvSpPr/>
            <p:nvPr/>
          </p:nvSpPr>
          <p:spPr>
            <a:xfrm>
              <a:off x="468360" y="5229360"/>
              <a:ext cx="763272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ole tekstowe 11"/>
            <p:cNvSpPr/>
            <p:nvPr/>
          </p:nvSpPr>
          <p:spPr>
            <a:xfrm>
              <a:off x="468360" y="537336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konanie samooceny wzbogaca wiedzę o nas sam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14"/>
          <p:cNvGrpSpPr/>
          <p:nvPr/>
        </p:nvGrpSpPr>
        <p:grpSpPr>
          <a:xfrm>
            <a:off x="395280" y="404640"/>
            <a:ext cx="7875720" cy="2789640"/>
            <a:chOff x="395280" y="404640"/>
            <a:chExt cx="7875720" cy="2789640"/>
          </a:xfrm>
        </p:grpSpPr>
        <p:sp>
          <p:nvSpPr>
            <p:cNvPr id="108" name="pole tekstowe 7"/>
            <p:cNvSpPr/>
            <p:nvPr/>
          </p:nvSpPr>
          <p:spPr>
            <a:xfrm>
              <a:off x="395280" y="404640"/>
              <a:ext cx="518436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, co myślimy o sobie, czyli nasz własny obraz samego siebie, ma ogromny wpływ na nasze życie, na to, jak się zachowujemy, jaki mamy stosunek do siebie i do innych ludzi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"/>
            <p:cNvPicPr/>
            <p:nvPr/>
          </p:nvPicPr>
          <p:blipFill>
            <a:blip r:embed="rId5"/>
            <a:stretch/>
          </p:blipFill>
          <p:spPr>
            <a:xfrm>
              <a:off x="5651640" y="548640"/>
              <a:ext cx="2619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13"/>
            <p:cNvSpPr/>
            <p:nvPr/>
          </p:nvSpPr>
          <p:spPr>
            <a:xfrm>
              <a:off x="395280" y="227736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braz samego siebie kształtuje się od najmłodszych lat życia. Jest on zawsze bardziej lub mniej subiektywn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7"/>
          <p:cNvSpPr/>
          <p:nvPr/>
        </p:nvSpPr>
        <p:spPr>
          <a:xfrm>
            <a:off x="324000" y="189000"/>
            <a:ext cx="7920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łówne czynniki psychologiczne tworzące psychiczny obraz człowiek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17"/>
          <p:cNvGrpSpPr/>
          <p:nvPr/>
        </p:nvGrpSpPr>
        <p:grpSpPr>
          <a:xfrm>
            <a:off x="539640" y="1413000"/>
            <a:ext cx="7345440" cy="1576440"/>
            <a:chOff x="539640" y="1413000"/>
            <a:chExt cx="7345440" cy="1576440"/>
          </a:xfrm>
        </p:grpSpPr>
        <p:sp>
          <p:nvSpPr>
            <p:cNvPr id="116" name="Dowolny kształt 11"/>
            <p:cNvSpPr/>
            <p:nvPr/>
          </p:nvSpPr>
          <p:spPr>
            <a:xfrm>
              <a:off x="539640" y="141300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wrodzon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temperament i inteligen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rostokąt zaokrąglony 12"/>
            <p:cNvSpPr/>
            <p:nvPr/>
          </p:nvSpPr>
          <p:spPr>
            <a:xfrm>
              <a:off x="696600" y="156996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18"/>
          <p:cNvGrpSpPr/>
          <p:nvPr/>
        </p:nvGrpSpPr>
        <p:grpSpPr>
          <a:xfrm>
            <a:off x="539640" y="3147840"/>
            <a:ext cx="7345440" cy="1576440"/>
            <a:chOff x="539640" y="3147840"/>
            <a:chExt cx="7345440" cy="1576440"/>
          </a:xfrm>
        </p:grpSpPr>
        <p:sp>
          <p:nvSpPr>
            <p:cNvPr id="119" name="Dowolny kształt 13"/>
            <p:cNvSpPr/>
            <p:nvPr/>
          </p:nvSpPr>
          <p:spPr>
            <a:xfrm>
              <a:off x="539640" y="314784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nabyt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charakter, osobowość,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artości i motywa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rostokąt zaokrąglony 14"/>
            <p:cNvSpPr/>
            <p:nvPr/>
          </p:nvSpPr>
          <p:spPr>
            <a:xfrm>
              <a:off x="696600" y="330480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ole tekstowe 16"/>
          <p:cNvSpPr/>
          <p:nvPr/>
        </p:nvSpPr>
        <p:spPr>
          <a:xfrm>
            <a:off x="324000" y="501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ważnych czynników psychiki wyznaczających nasze zachowania należą również: percepcja, indywidualne zdolności i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Dowolny kształt 10"/>
          <p:cNvSpPr/>
          <p:nvPr/>
        </p:nvSpPr>
        <p:spPr>
          <a:xfrm>
            <a:off x="3276720" y="2349360"/>
            <a:ext cx="2016000" cy="16560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psych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olny kształt 11"/>
          <p:cNvSpPr/>
          <p:nvPr/>
        </p:nvSpPr>
        <p:spPr>
          <a:xfrm rot="16200000">
            <a:off x="4022640" y="2104560"/>
            <a:ext cx="40932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olny kształt 12"/>
          <p:cNvSpPr/>
          <p:nvPr/>
        </p:nvSpPr>
        <p:spPr>
          <a:xfrm>
            <a:off x="3348000" y="189000"/>
            <a:ext cx="1800360" cy="17319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dolności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intelige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olny kształt 13"/>
          <p:cNvSpPr/>
          <p:nvPr/>
        </p:nvSpPr>
        <p:spPr>
          <a:xfrm rot="19800000">
            <a:off x="5146560" y="247608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olny kształt 14"/>
          <p:cNvSpPr/>
          <p:nvPr/>
        </p:nvSpPr>
        <p:spPr>
          <a:xfrm>
            <a:off x="5435640" y="1125360"/>
            <a:ext cx="1816200" cy="160344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ystem potrzeb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motyw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olny kształt 16"/>
          <p:cNvSpPr/>
          <p:nvPr/>
        </p:nvSpPr>
        <p:spPr>
          <a:xfrm rot="1800000">
            <a:off x="5200560" y="352872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olny kształt 17"/>
          <p:cNvSpPr/>
          <p:nvPr/>
        </p:nvSpPr>
        <p:spPr>
          <a:xfrm>
            <a:off x="5508720" y="3213000"/>
            <a:ext cx="1743120" cy="156384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8"/>
          <p:cNvSpPr/>
          <p:nvPr/>
        </p:nvSpPr>
        <p:spPr>
          <a:xfrm rot="5400000">
            <a:off x="4167720" y="419328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9"/>
          <p:cNvSpPr/>
          <p:nvPr/>
        </p:nvSpPr>
        <p:spPr>
          <a:xfrm>
            <a:off x="3564000" y="4437000"/>
            <a:ext cx="1612800" cy="158112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20"/>
          <p:cNvSpPr/>
          <p:nvPr/>
        </p:nvSpPr>
        <p:spPr>
          <a:xfrm rot="19800000">
            <a:off x="2968560" y="360000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21"/>
          <p:cNvSpPr/>
          <p:nvPr/>
        </p:nvSpPr>
        <p:spPr>
          <a:xfrm>
            <a:off x="1332000" y="3284640"/>
            <a:ext cx="1815840" cy="16603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olny kształt 22"/>
          <p:cNvSpPr/>
          <p:nvPr/>
        </p:nvSpPr>
        <p:spPr>
          <a:xfrm rot="1800000">
            <a:off x="3029040" y="247644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olny kształt 23"/>
          <p:cNvSpPr/>
          <p:nvPr/>
        </p:nvSpPr>
        <p:spPr>
          <a:xfrm>
            <a:off x="1476360" y="1268280"/>
            <a:ext cx="1671480" cy="165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erce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4"/>
          <p:cNvSpPr/>
          <p:nvPr/>
        </p:nvSpPr>
        <p:spPr>
          <a:xfrm>
            <a:off x="2762640" y="6308640"/>
            <a:ext cx="54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F. Terelak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 menedżera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Difin, Warszawa 199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7"/>
          <p:cNvSpPr/>
          <p:nvPr/>
        </p:nvSpPr>
        <p:spPr>
          <a:xfrm>
            <a:off x="324000" y="333360"/>
            <a:ext cx="79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(po łacinie 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ersona)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ierwotnie oznaczało maskę teatralną używaną przez starożytnych aktorów dramatyczny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3"/>
          <p:cNvGrpSpPr/>
          <p:nvPr/>
        </p:nvGrpSpPr>
        <p:grpSpPr>
          <a:xfrm>
            <a:off x="468360" y="1916280"/>
            <a:ext cx="7559640" cy="1873080"/>
            <a:chOff x="468360" y="1916280"/>
            <a:chExt cx="7559640" cy="1873080"/>
          </a:xfrm>
        </p:grpSpPr>
        <p:sp>
          <p:nvSpPr>
            <p:cNvPr id="144" name="Prostokąt zaokrąglony 10"/>
            <p:cNvSpPr/>
            <p:nvPr/>
          </p:nvSpPr>
          <p:spPr>
            <a:xfrm>
              <a:off x="468360" y="1916280"/>
              <a:ext cx="7559640" cy="18730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ole tekstowe 8"/>
            <p:cNvSpPr/>
            <p:nvPr/>
          </p:nvSpPr>
          <p:spPr>
            <a:xfrm>
              <a:off x="612360" y="1916280"/>
              <a:ext cx="727164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owość to złożony wzorzec głęboko zakorzenionych cech psychologicznych, wyrażanych w sposób automatyczny niemal w każdej sferze funkcjonowania psychologicznego i zachowań człowieka</a:t>
              </a:r>
              <a:r>
                <a:rPr b="0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ole tekstowe 11"/>
          <p:cNvSpPr/>
          <p:nvPr/>
        </p:nvSpPr>
        <p:spPr>
          <a:xfrm>
            <a:off x="395280" y="4076640"/>
            <a:ext cx="691344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rozumieć istotę czyjejś osobowości, musimy zrozumieć to, co ta osoba ma wspólnego z innymi, ale także i to, c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niej jest jedyne i niepowtarzal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874800" cy="187164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12"/>
          <p:cNvSpPr/>
          <p:nvPr/>
        </p:nvSpPr>
        <p:spPr>
          <a:xfrm>
            <a:off x="991080" y="580536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człowieka kształtuje się w pierwszych latach ży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upa 16"/>
          <p:cNvGrpSpPr/>
          <p:nvPr/>
        </p:nvGrpSpPr>
        <p:grpSpPr>
          <a:xfrm>
            <a:off x="471600" y="549360"/>
            <a:ext cx="3755880" cy="5688000"/>
            <a:chOff x="471600" y="549360"/>
            <a:chExt cx="3755880" cy="5688000"/>
          </a:xfrm>
        </p:grpSpPr>
        <p:sp>
          <p:nvSpPr>
            <p:cNvPr id="153" name="Dowolny kształt 10"/>
            <p:cNvSpPr/>
            <p:nvPr/>
          </p:nvSpPr>
          <p:spPr>
            <a:xfrm>
              <a:off x="471600" y="549360"/>
              <a:ext cx="37558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roces tworzenia się osobowości ma wpływ szereg czynników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dziedziczność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środowisko rodzinn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specyfika kulturow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przynależność do grup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łecznej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osobiste doświadczenia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11"/>
            <p:cNvSpPr/>
            <p:nvPr/>
          </p:nvSpPr>
          <p:spPr>
            <a:xfrm>
              <a:off x="1401840" y="890640"/>
              <a:ext cx="1895400" cy="1893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7"/>
          <p:cNvGrpSpPr/>
          <p:nvPr/>
        </p:nvGrpSpPr>
        <p:grpSpPr>
          <a:xfrm>
            <a:off x="4340160" y="549360"/>
            <a:ext cx="3757680" cy="5688000"/>
            <a:chOff x="4340160" y="549360"/>
            <a:chExt cx="3757680" cy="5688000"/>
          </a:xfrm>
        </p:grpSpPr>
        <p:sp>
          <p:nvSpPr>
            <p:cNvPr id="156" name="Dowolny kształt 12"/>
            <p:cNvSpPr/>
            <p:nvPr/>
          </p:nvSpPr>
          <p:spPr>
            <a:xfrm>
              <a:off x="4340160" y="549360"/>
              <a:ext cx="37576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em tego wszystkiego jest jednostka, któr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jest trochę taka jak inni ludz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niektórz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ktoś inny, kto usiłuj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iągnąć samorealizację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integrację ze swoi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środowiski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rostokąt 13"/>
            <p:cNvSpPr/>
            <p:nvPr/>
          </p:nvSpPr>
          <p:spPr>
            <a:xfrm>
              <a:off x="5271840" y="890640"/>
              <a:ext cx="1893960" cy="1893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Strzałka w lewo i prawo 14"/>
          <p:cNvSpPr/>
          <p:nvPr/>
        </p:nvSpPr>
        <p:spPr>
          <a:xfrm>
            <a:off x="3635280" y="5300640"/>
            <a:ext cx="1290600" cy="85392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dcb3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7"/>
          <p:cNvSpPr/>
          <p:nvPr/>
        </p:nvSpPr>
        <p:spPr>
          <a:xfrm>
            <a:off x="478440" y="62064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może być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c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ab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2"/>
          <p:cNvGrpSpPr/>
          <p:nvPr/>
        </p:nvGrpSpPr>
        <p:grpSpPr>
          <a:xfrm>
            <a:off x="468360" y="1628640"/>
            <a:ext cx="7829640" cy="1923480"/>
            <a:chOff x="468360" y="1628640"/>
            <a:chExt cx="7829640" cy="1923480"/>
          </a:xfrm>
        </p:grpSpPr>
        <p:sp>
          <p:nvSpPr>
            <p:cNvPr id="164" name="pole tekstowe 8"/>
            <p:cNvSpPr/>
            <p:nvPr/>
          </p:nvSpPr>
          <p:spPr>
            <a:xfrm>
              <a:off x="468360" y="1628640"/>
              <a:ext cx="489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możemy mówić wtedy, gdy jest ona stabilna, względ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trwale wiążąca struktury i procesy psychiczne człowieka, nie wyczerpuje się szybko i przejawia się siłą przebi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taktach z innym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" descr=""/>
            <p:cNvPicPr/>
            <p:nvPr/>
          </p:nvPicPr>
          <p:blipFill>
            <a:blip r:embed="rId2"/>
            <a:stretch/>
          </p:blipFill>
          <p:spPr>
            <a:xfrm>
              <a:off x="5436720" y="1628640"/>
              <a:ext cx="2861280" cy="181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upa 13"/>
          <p:cNvGrpSpPr/>
          <p:nvPr/>
        </p:nvGrpSpPr>
        <p:grpSpPr>
          <a:xfrm>
            <a:off x="539640" y="4005360"/>
            <a:ext cx="7704360" cy="1550880"/>
            <a:chOff x="539640" y="4005360"/>
            <a:chExt cx="7704360" cy="1550880"/>
          </a:xfrm>
        </p:grpSpPr>
        <p:sp>
          <p:nvSpPr>
            <p:cNvPr id="167" name="pole tekstowe 10"/>
            <p:cNvSpPr/>
            <p:nvPr/>
          </p:nvSpPr>
          <p:spPr>
            <a:xfrm>
              <a:off x="3059640" y="4293000"/>
              <a:ext cx="518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udzie 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ulegają impulsom, niekontrolowanym emocjom, są bardziej podatni na str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4005360"/>
              <a:ext cx="24480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yteria dojrzałej osobowości według Alpor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Dowolny kształt 8"/>
          <p:cNvSpPr/>
          <p:nvPr/>
        </p:nvSpPr>
        <p:spPr>
          <a:xfrm>
            <a:off x="1547640" y="6165720"/>
            <a:ext cx="5616720" cy="3668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7. Umiejętność budowania własnej filozofii życia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olny kształt 10"/>
          <p:cNvSpPr/>
          <p:nvPr/>
        </p:nvSpPr>
        <p:spPr>
          <a:xfrm>
            <a:off x="468360" y="537372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6. Otwartość na opinie innych ludz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la zdrowej osobowości jest to bogate źródło pogłębiające rozumienie samego siebie i własne relacji z innymi ludźm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11"/>
          <p:cNvSpPr/>
          <p:nvPr/>
        </p:nvSpPr>
        <p:spPr>
          <a:xfrm>
            <a:off x="468360" y="458136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5. Potrzeba posiadania kompetencj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nabywanie nowych lub doskonalenie już posiadanych umiejętnoś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olny kształt 12"/>
          <p:cNvSpPr/>
          <p:nvPr/>
        </p:nvSpPr>
        <p:spPr>
          <a:xfrm>
            <a:off x="468360" y="4005360"/>
            <a:ext cx="7775640" cy="569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4. Realistyczne postrzeganie rzeczywistośc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olny kształt 13"/>
          <p:cNvSpPr/>
          <p:nvPr/>
        </p:nvSpPr>
        <p:spPr>
          <a:xfrm>
            <a:off x="468360" y="2781360"/>
            <a:ext cx="7775640" cy="11779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38916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Poczucie emocjonalnego bezpieczeństwa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iąże się z realistycznym poziomem samoakceptacji, który obejmuje zarówno umiejętność optymistycznego godzenia się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łasnymi słabościami, jak i tolerancją na różnego typu frustrac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olny kształt 14"/>
          <p:cNvSpPr/>
          <p:nvPr/>
        </p:nvSpPr>
        <p:spPr>
          <a:xfrm>
            <a:off x="468360" y="2276640"/>
            <a:ext cx="7775640" cy="4856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82440" bIns="35784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 Okazywanie ciepła w relacjach z innymi ludźm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olny kształt 16"/>
          <p:cNvSpPr/>
          <p:nvPr/>
        </p:nvSpPr>
        <p:spPr>
          <a:xfrm>
            <a:off x="468360" y="1125360"/>
            <a:ext cx="7775640" cy="1151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b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Udzielanie się na zewnątrz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gażowanie się w aktywność jest cechą dojrzałej osobowości. Im bardziej człowiek włącza się w różnego typu działania związane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innymi ludźmi, ideami lub zadaniami, tym bardziej dojrzała jest jego osobowoś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58:22Z</dcterms:created>
  <dc:creator>x</dc:creator>
  <dc:description/>
  <dc:language>en-US</dc:language>
  <cp:lastModifiedBy>Marta</cp:lastModifiedBy>
  <dcterms:modified xsi:type="dcterms:W3CDTF">2013-01-31T15:00:25Z</dcterms:modified>
  <cp:revision>65</cp:revision>
  <dc:subject/>
  <dc:title>Slajd 1</dc:title>
</cp:coreProperties>
</file>